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9120" y="353520"/>
            <a:ext cx="76071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6320" y="64310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57852C1F-5A8F-4CD7-BA56-D602B815A274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533520" y="982800"/>
            <a:ext cx="8153280" cy="2966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33520" y="2008080"/>
            <a:ext cx="8153280" cy="83844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会计信息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3505320"/>
            <a:ext cx="8153280" cy="129528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四节年度账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空年度 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7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套与年度账有什么区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297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1170000"/>
            <a:ext cx="8153280" cy="83808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33520" y="2209680"/>
            <a:ext cx="8153280" cy="129564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738360"/>
            <a:ext cx="8217000" cy="560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0" rIns="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本章学习目标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11280" y="1600200"/>
            <a:ext cx="79992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611280" y="191628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20760" y="1861560"/>
            <a:ext cx="8680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11280" y="1854360"/>
            <a:ext cx="799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本章学习， 要求掌握系统管理中设置操作员及操作员权限，建立账套的方法；熟悉账套的备份与恢复方法；了解年度账管理的内容和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42892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1520" y="1852560"/>
            <a:ext cx="182736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428920" y="1852560"/>
            <a:ext cx="174312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及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43280" y="1852560"/>
            <a:ext cx="185760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946920" y="1795320"/>
            <a:ext cx="1816200" cy="9622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度账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01520" y="2819520"/>
            <a:ext cx="1827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的主要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应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292720" y="2819520"/>
            <a:ext cx="1827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0"/>
          <p:cNvCxnSpPr/>
          <p:nvPr/>
        </p:nvCxnSpPr>
        <p:spPr>
          <a:xfrm flipH="1" rot="16200000">
            <a:off x="6299640" y="-128880"/>
            <a:ext cx="848520" cy="293436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cxnSp>
        <p:nvCxnSpPr>
          <p:cNvPr id="60" name="AutoShape 11"/>
          <p:cNvCxnSpPr/>
          <p:nvPr/>
        </p:nvCxnSpPr>
        <p:spPr>
          <a:xfrm rot="5400000">
            <a:off x="1799640" y="-166680"/>
            <a:ext cx="848520" cy="301032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sp>
        <p:nvSpPr>
          <p:cNvPr id="61" name="Rectangle 12"/>
          <p:cNvSpPr/>
          <p:nvPr/>
        </p:nvSpPr>
        <p:spPr>
          <a:xfrm>
            <a:off x="380880" y="457200"/>
            <a:ext cx="8382240" cy="560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Autofit/>
          </a:bodyPr>
          <a:p>
            <a:pPr marL="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7162920" y="2819520"/>
            <a:ext cx="1828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2924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账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的引入和输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9148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清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系统管理的主要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账套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度账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员及权限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系统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68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系统管理应用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在应用会计信息之初，首先要在系统中为企业创建一个账套核算体系，这一过程就是建账。建账过程主要分为设置用户、创建账套、操作员赋权三个步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73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二节操作员及权限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操作员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或删除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操作员权限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2960" y="3613320"/>
            <a:ext cx="4429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定或取消账套主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或删除操作员权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5572080" y="3998880"/>
            <a:ext cx="2785680" cy="1309320"/>
            <a:chOff x="5572080" y="3998880"/>
            <a:chExt cx="2785680" cy="1309320"/>
          </a:xfrm>
        </p:grpSpPr>
        <p:sp>
          <p:nvSpPr>
            <p:cNvPr id="79" name="AutoShape 5"/>
            <p:cNvSpPr/>
            <p:nvPr/>
          </p:nvSpPr>
          <p:spPr>
            <a:xfrm>
              <a:off x="5687640" y="4102200"/>
              <a:ext cx="2670120" cy="565200"/>
            </a:xfrm>
            <a:prstGeom prst="parallelogram">
              <a:avLst>
                <a:gd name="adj" fmla="val 36722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6" descr="vvx"/>
            <p:cNvPicPr/>
            <p:nvPr/>
          </p:nvPicPr>
          <p:blipFill>
            <a:blip r:embed="rId1"/>
            <a:stretch/>
          </p:blipFill>
          <p:spPr>
            <a:xfrm>
              <a:off x="5572080" y="3998880"/>
              <a:ext cx="116244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Box 6"/>
          <p:cNvSpPr/>
          <p:nvPr/>
        </p:nvSpPr>
        <p:spPr>
          <a:xfrm>
            <a:off x="3544920" y="5645160"/>
            <a:ext cx="48132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什么情况下会用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销操作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建立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账套向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编码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精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修改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85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6"/>
          <p:cNvSpPr/>
          <p:nvPr/>
        </p:nvSpPr>
        <p:spPr>
          <a:xfrm>
            <a:off x="2286000" y="5045040"/>
            <a:ext cx="57150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情况下，哪些账套的信息不能修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账套的引入和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1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什么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备份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9:56Z</dcterms:created>
  <dc:creator>Administrator</dc:creator>
  <dc:description/>
  <dc:language>en-US</dc:language>
  <cp:lastModifiedBy>lenovo</cp:lastModifiedBy>
  <cp:lastPrinted>1899-12-30T00:00:00Z</cp:lastPrinted>
  <dcterms:modified xsi:type="dcterms:W3CDTF">2018-02-27T09:00:50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